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camera.wav" ContentType="audio/x-wav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HIMES.WAV" ContentType="audio/x-wav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9551-03D3-465B-98A5-1D9CE334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F960-8756-42FB-96C5-E6C6EABA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9E4A-923E-4250-AE0D-52BDDEB3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8BEC-326E-45B4-ABAE-89F21CB9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A35F-958A-49E8-A20C-D365526F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5BA5-33F5-4D4C-8695-23948F1A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DCE6-9097-4B8D-9F4C-04D05EC8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17FE-E116-47E1-B94B-FD6AE03D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4DCA-617A-43ED-9413-020CCE68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F7A3-77B9-4AE1-94E3-8833B314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65ED-153C-4E76-87A7-7E4812EA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ED24-60B4-4A70-82C1-14A9E6D4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BCB7-810C-4138-8951-E3A20E39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B496-4A1D-4460-9DF6-D38BF2CF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C27C-3FD1-4EFB-B0DB-09015D67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8207-136F-4FAB-B40B-CF57AC52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DD19-867F-422A-A3B5-89ABD196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7831D-51CF-4600-8E58-D960B8D9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5D656-EBCC-49CA-9707-46B58F45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E0BEF-6FA6-4D69-B368-94348ED4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089B0-2C28-477B-BFC7-575A586D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C78D1-DDF4-44F7-8C3A-C83DD2F2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E9E9-5E24-44F7-8423-382B5684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A2AAF-C06A-40E5-A947-B7DB94AE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61BD9-1F82-4D8B-BD81-200D2A19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D8299-07B9-4999-BF39-05840DD2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CA02C-26D9-4DCE-A095-1BAA1251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2AB3A-EEB1-4131-990A-98D4F425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D5818-6A4C-47BA-B49E-D3CE7BE2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73DFD-A16B-4260-AA2E-51722630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EBF31-4F5C-4251-848D-54F91442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E10C8-4CDC-48D7-91A6-96604826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2F8A3-745F-4AB6-8490-FE118255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DBE3-8ACE-4D1E-87E8-9AF98DE8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C99FC-81AC-4542-B14A-56CA1F0D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AD05B-524F-4296-8DF1-A7687766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FD953-AC25-49AC-B12D-06015A68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86739-CCB4-4B12-99AE-5FAEAC58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4FB27-7AB8-4AB0-A49E-0CD4661C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44D74-83AA-40AF-AB00-63C078DC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D2D99-A187-40C7-9FA1-63CBE9CD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406D2-D4EE-4D1F-BF50-5E687BCC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4C707-E71F-48B4-8E2D-9A3BF960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A0E7-4CBF-4D0C-9988-B754BD29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A1F4-3D3F-4C99-8D13-3992C788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5A2A-0B1A-4234-96ED-E3AB5546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C5E2-927E-4DA9-98AD-20403E6C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934-C4F6-4E29-AE4C-D7D751D3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07BB-A217-49AE-AA82-52F61FBCA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5394-D7C3-43D2-B1CF-20610C6AC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4A34-3434-4C19-B3D8-48B14B3B8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C624-7BF5-4187-A1DD-9CE5BFCC2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18.xm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6.xml"/><Relationship Id="rId4" Type="http://schemas.openxmlformats.org/officeDocument/2006/relationships/slide" Target="slide3.xml"/><Relationship Id="rId5" Type="http://schemas.openxmlformats.org/officeDocument/2006/relationships/slide" Target="slide6.xml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法国大革命和拿破仑帝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981080" y="3809520"/>
            <a:ext cx="55627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湖县裴刘学校   周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086600" cy="32893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" y="3657600"/>
            <a:ext cx="4419720" cy="2584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095880" y="38862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处死国王路易十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4952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建立法兰西第一共和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4" action="ppaction://hlinksldjump"/>
          </p:cNvPr>
          <p:cNvSpPr/>
          <p:nvPr/>
        </p:nvSpPr>
        <p:spPr>
          <a:xfrm>
            <a:off x="7924680" y="61722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7493"/>
                </a:moveTo>
                <a:lnTo>
                  <a:pt x="16300" y="7493"/>
                </a:lnTo>
                <a:lnTo>
                  <a:pt x="16300" y="12828"/>
                </a:lnTo>
                <a:cubicBezTo>
                  <a:pt x="16300" y="13751"/>
                  <a:pt x="17100" y="14482"/>
                  <a:pt x="18136" y="14482"/>
                </a:cubicBezTo>
                <a:lnTo>
                  <a:pt x="19799" y="14482"/>
                </a:lnTo>
                <a:cubicBezTo>
                  <a:pt x="20834" y="14482"/>
                  <a:pt x="21635" y="13751"/>
                  <a:pt x="21635" y="12828"/>
                </a:cubicBezTo>
                <a:lnTo>
                  <a:pt x="21635" y="7493"/>
                </a:lnTo>
                <a:lnTo>
                  <a:pt x="19799" y="7493"/>
                </a:lnTo>
                <a:lnTo>
                  <a:pt x="23306" y="3985"/>
                </a:lnTo>
                <a:lnTo>
                  <a:pt x="26979" y="7493"/>
                </a:lnTo>
                <a:lnTo>
                  <a:pt x="25143" y="7493"/>
                </a:lnTo>
                <a:lnTo>
                  <a:pt x="25143" y="12828"/>
                </a:lnTo>
                <a:cubicBezTo>
                  <a:pt x="25143" y="15596"/>
                  <a:pt x="22566" y="18155"/>
                  <a:pt x="19799" y="18155"/>
                </a:cubicBezTo>
                <a:lnTo>
                  <a:pt x="18136" y="18155"/>
                </a:lnTo>
                <a:cubicBezTo>
                  <a:pt x="15368" y="18155"/>
                  <a:pt x="12792" y="15596"/>
                  <a:pt x="1279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雅格宾派代表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—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罗伯斯庇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57200" y="1981080"/>
            <a:ext cx="3645000" cy="4724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876920" y="18288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法国大革命时期的著名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政治活动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雅各宾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专政期间的主要当权者。以其严峻态度、高度原则性和简朴生活博得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可腐蚀的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的称号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79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国民公会中反罗伯斯庇尔的力量联合发动政变，推翻雅各宾派专政。罗伯斯庇尔及其战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未经审判即被送上断头台。时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法国大革命的意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仿宋"/>
              </a:rPr>
              <a:t>法国大革命摧毁了法国的封建统治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仿宋"/>
              </a:rPr>
              <a:t>传播了资产阶级自由民主的进步思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仿宋"/>
              </a:rPr>
              <a:t>对世界历史的发展有很大影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638320" y="533520"/>
            <a:ext cx="3124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戎马一生的拿破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52280" y="380880"/>
            <a:ext cx="5096160" cy="601992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7"/>
          <p:cNvSpPr/>
          <p:nvPr/>
        </p:nvSpPr>
        <p:spPr>
          <a:xfrm>
            <a:off x="7696080" y="6019920"/>
            <a:ext cx="1219320" cy="588960"/>
          </a:xfrm>
          <a:custGeom>
            <a:avLst/>
            <a:gdLst>
              <a:gd name="textAreaLeft" fmla="*/ 38160 w 1219320"/>
              <a:gd name="textAreaRight" fmla="*/ 1181160 w 1219320"/>
              <a:gd name="textAreaTop" fmla="*/ 38160 h 588960"/>
              <a:gd name="textAreaBottom" fmla="*/ 550800 h 588960"/>
            </a:gdLst>
            <a:ahLst/>
            <a:rect l="textAreaLeft" t="textAreaTop" r="textAreaRight" b="textAreaBottom"/>
            <a:pathLst>
              <a:path w="44704" h="21600">
                <a:moveTo>
                  <a:pt x="0" y="0"/>
                </a:moveTo>
                <a:lnTo>
                  <a:pt x="44704" y="0"/>
                </a:lnTo>
                <a:lnTo>
                  <a:pt x="44704" y="21600"/>
                </a:lnTo>
                <a:lnTo>
                  <a:pt x="0" y="21600"/>
                </a:lnTo>
                <a:close/>
              </a:path>
              <a:path fill="lightenLess" w="44704" h="21600">
                <a:moveTo>
                  <a:pt x="0" y="0"/>
                </a:moveTo>
                <a:lnTo>
                  <a:pt x="44704" y="0"/>
                </a:lnTo>
                <a:lnTo>
                  <a:pt x="43304" y="1400"/>
                </a:lnTo>
                <a:lnTo>
                  <a:pt x="1400" y="1400"/>
                </a:lnTo>
                <a:close/>
              </a:path>
              <a:path fill="darken" w="44704" h="21600">
                <a:moveTo>
                  <a:pt x="44704" y="0"/>
                </a:moveTo>
                <a:lnTo>
                  <a:pt x="44704" y="21600"/>
                </a:lnTo>
                <a:lnTo>
                  <a:pt x="43304" y="20200"/>
                </a:lnTo>
                <a:lnTo>
                  <a:pt x="43304" y="1400"/>
                </a:lnTo>
                <a:close/>
              </a:path>
              <a:path fill="darkenLess" w="44704" h="21600">
                <a:moveTo>
                  <a:pt x="4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04" y="20200"/>
                </a:lnTo>
                <a:close/>
              </a:path>
              <a:path fill="lighten" w="4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04" h="21600">
                <a:moveTo>
                  <a:pt x="15346" y="3794"/>
                </a:moveTo>
                <a:lnTo>
                  <a:pt x="29359" y="10800"/>
                </a:lnTo>
                <a:lnTo>
                  <a:pt x="153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2743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革命高潮结束后，资产阶级期望稳定统治秩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93280" y="2133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背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409720" y="2057400"/>
            <a:ext cx="3165480" cy="40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初露锋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政变夺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黄袍”加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颁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法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对外征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远征失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被迫下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52280" y="2819520"/>
            <a:ext cx="16002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57400" y="1295280"/>
            <a:ext cx="228600" cy="3657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14600" y="2209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帝国的建立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0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90920" y="31240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内外政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4114800"/>
            <a:ext cx="49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帝国的覆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914400"/>
            <a:ext cx="58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、夺取政权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1799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年拿破仑政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7391520" y="5791320"/>
            <a:ext cx="1218960" cy="588960"/>
          </a:xfrm>
          <a:custGeom>
            <a:avLst/>
            <a:gdLst>
              <a:gd name="textAreaLeft" fmla="*/ 38160 w 1218960"/>
              <a:gd name="textAreaRight" fmla="*/ 1180800 w 1218960"/>
              <a:gd name="textAreaTop" fmla="*/ 38160 h 588960"/>
              <a:gd name="textAreaBottom" fmla="*/ 550800 h 588960"/>
            </a:gdLst>
            <a:ahLst/>
            <a:rect l="textAreaLeft" t="textAreaTop" r="textAreaRight" b="textAreaBottom"/>
            <a:pathLst>
              <a:path w="44691" h="21600">
                <a:moveTo>
                  <a:pt x="0" y="0"/>
                </a:moveTo>
                <a:lnTo>
                  <a:pt x="44691" y="0"/>
                </a:lnTo>
                <a:lnTo>
                  <a:pt x="44691" y="21600"/>
                </a:lnTo>
                <a:lnTo>
                  <a:pt x="0" y="21600"/>
                </a:lnTo>
                <a:close/>
              </a:path>
              <a:path fill="lightenLess" w="44691" h="21600">
                <a:moveTo>
                  <a:pt x="0" y="0"/>
                </a:moveTo>
                <a:lnTo>
                  <a:pt x="44691" y="0"/>
                </a:lnTo>
                <a:lnTo>
                  <a:pt x="43291" y="1400"/>
                </a:lnTo>
                <a:lnTo>
                  <a:pt x="1400" y="1400"/>
                </a:lnTo>
                <a:close/>
              </a:path>
              <a:path fill="darken" w="44691" h="21600">
                <a:moveTo>
                  <a:pt x="44691" y="0"/>
                </a:moveTo>
                <a:lnTo>
                  <a:pt x="44691" y="21600"/>
                </a:lnTo>
                <a:lnTo>
                  <a:pt x="43291" y="20200"/>
                </a:lnTo>
                <a:lnTo>
                  <a:pt x="43291" y="1400"/>
                </a:lnTo>
                <a:close/>
              </a:path>
              <a:path fill="darkenLess" w="44691" h="21600">
                <a:moveTo>
                  <a:pt x="44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91" y="20200"/>
                </a:lnTo>
                <a:close/>
              </a:path>
              <a:path fill="lighten" w="44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91" h="21600">
                <a:moveTo>
                  <a:pt x="15339" y="3794"/>
                </a:moveTo>
                <a:lnTo>
                  <a:pt x="29352" y="10800"/>
                </a:lnTo>
                <a:lnTo>
                  <a:pt x="153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拿破仑加冕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7619760" cy="56386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305920" y="62485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7493"/>
                </a:moveTo>
                <a:lnTo>
                  <a:pt x="16291" y="7493"/>
                </a:lnTo>
                <a:lnTo>
                  <a:pt x="16291" y="12828"/>
                </a:lnTo>
                <a:cubicBezTo>
                  <a:pt x="16291" y="13751"/>
                  <a:pt x="17092" y="14482"/>
                  <a:pt x="18128" y="14482"/>
                </a:cubicBezTo>
                <a:lnTo>
                  <a:pt x="19790" y="14482"/>
                </a:lnTo>
                <a:cubicBezTo>
                  <a:pt x="20826" y="14482"/>
                  <a:pt x="21627" y="13751"/>
                  <a:pt x="21627" y="12828"/>
                </a:cubicBezTo>
                <a:lnTo>
                  <a:pt x="21627" y="7493"/>
                </a:lnTo>
                <a:lnTo>
                  <a:pt x="19790" y="7493"/>
                </a:lnTo>
                <a:lnTo>
                  <a:pt x="23298" y="3985"/>
                </a:lnTo>
                <a:lnTo>
                  <a:pt x="26971" y="7493"/>
                </a:lnTo>
                <a:lnTo>
                  <a:pt x="25134" y="7493"/>
                </a:lnTo>
                <a:lnTo>
                  <a:pt x="25134" y="12828"/>
                </a:lnTo>
                <a:cubicBezTo>
                  <a:pt x="25134" y="15596"/>
                  <a:pt x="22558" y="18155"/>
                  <a:pt x="19790" y="18155"/>
                </a:cubicBezTo>
                <a:lnTo>
                  <a:pt x="18128" y="18155"/>
                </a:lnTo>
                <a:cubicBezTo>
                  <a:pt x="15360" y="18155"/>
                  <a:pt x="12784" y="15596"/>
                  <a:pt x="127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拿破仑法典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3666960" cy="4933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267080" y="1981080"/>
            <a:ext cx="464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4—18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拿破仑制定和颁布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民法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商法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刑法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法律文献。其中最著名的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颁布的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民法典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改名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拿破仑法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法典巩固了法国大革命的成果，打击封建势力，促进了法国资本主义的发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05920" y="62485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7493"/>
                </a:moveTo>
                <a:lnTo>
                  <a:pt x="16291" y="7493"/>
                </a:lnTo>
                <a:lnTo>
                  <a:pt x="16291" y="12828"/>
                </a:lnTo>
                <a:cubicBezTo>
                  <a:pt x="16291" y="13751"/>
                  <a:pt x="17092" y="14482"/>
                  <a:pt x="18128" y="14482"/>
                </a:cubicBezTo>
                <a:lnTo>
                  <a:pt x="19790" y="14482"/>
                </a:lnTo>
                <a:cubicBezTo>
                  <a:pt x="20826" y="14482"/>
                  <a:pt x="21627" y="13751"/>
                  <a:pt x="21627" y="12828"/>
                </a:cubicBezTo>
                <a:lnTo>
                  <a:pt x="21627" y="7493"/>
                </a:lnTo>
                <a:lnTo>
                  <a:pt x="19790" y="7493"/>
                </a:lnTo>
                <a:lnTo>
                  <a:pt x="23298" y="3985"/>
                </a:lnTo>
                <a:lnTo>
                  <a:pt x="26971" y="7493"/>
                </a:lnTo>
                <a:lnTo>
                  <a:pt x="25134" y="7493"/>
                </a:lnTo>
                <a:lnTo>
                  <a:pt x="25134" y="12828"/>
                </a:lnTo>
                <a:cubicBezTo>
                  <a:pt x="25134" y="15596"/>
                  <a:pt x="22558" y="18155"/>
                  <a:pt x="19790" y="18155"/>
                </a:cubicBezTo>
                <a:lnTo>
                  <a:pt x="18128" y="18155"/>
                </a:lnTo>
                <a:cubicBezTo>
                  <a:pt x="15360" y="18155"/>
                  <a:pt x="12784" y="15596"/>
                  <a:pt x="127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57200" y="38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52280" y="773280"/>
            <a:ext cx="8686800" cy="5627520"/>
            <a:chOff x="152280" y="773280"/>
            <a:chExt cx="8686800" cy="5627520"/>
          </a:xfrm>
        </p:grpSpPr>
        <p:pic>
          <p:nvPicPr>
            <p:cNvPr id="271" name="" descr=""/>
            <p:cNvPicPr/>
            <p:nvPr/>
          </p:nvPicPr>
          <p:blipFill>
            <a:blip r:embed="rId2"/>
            <a:stretch/>
          </p:blipFill>
          <p:spPr>
            <a:xfrm>
              <a:off x="152280" y="773280"/>
              <a:ext cx="4359240" cy="283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4952880" y="3668760"/>
              <a:ext cx="3886200" cy="273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"/>
          <p:cNvSpPr/>
          <p:nvPr/>
        </p:nvSpPr>
        <p:spPr>
          <a:xfrm>
            <a:off x="3354480" y="2514600"/>
            <a:ext cx="200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方正隶书简体"/>
              </a:rPr>
              <a:t>战果辉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方正隶书简体"/>
              </a:rPr>
              <a:t>多次打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方正隶书简体"/>
              </a:rPr>
              <a:t>反法同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149360" y="882720"/>
            <a:ext cx="450684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拿破仑的对外战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640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742840" y="-302040"/>
            <a:ext cx="60404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拿破仑兵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1523880" y="1266840"/>
            <a:ext cx="7086600" cy="53928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52280" y="61722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7493"/>
                </a:moveTo>
                <a:lnTo>
                  <a:pt x="16300" y="7493"/>
                </a:lnTo>
                <a:lnTo>
                  <a:pt x="16300" y="12828"/>
                </a:lnTo>
                <a:cubicBezTo>
                  <a:pt x="16300" y="13751"/>
                  <a:pt x="17100" y="14482"/>
                  <a:pt x="18136" y="14482"/>
                </a:cubicBezTo>
                <a:lnTo>
                  <a:pt x="19799" y="14482"/>
                </a:lnTo>
                <a:cubicBezTo>
                  <a:pt x="20834" y="14482"/>
                  <a:pt x="21635" y="13751"/>
                  <a:pt x="21635" y="12828"/>
                </a:cubicBezTo>
                <a:lnTo>
                  <a:pt x="21635" y="7493"/>
                </a:lnTo>
                <a:lnTo>
                  <a:pt x="19799" y="7493"/>
                </a:lnTo>
                <a:lnTo>
                  <a:pt x="23306" y="3985"/>
                </a:lnTo>
                <a:lnTo>
                  <a:pt x="26979" y="7493"/>
                </a:lnTo>
                <a:lnTo>
                  <a:pt x="25143" y="7493"/>
                </a:lnTo>
                <a:lnTo>
                  <a:pt x="25143" y="12828"/>
                </a:lnTo>
                <a:cubicBezTo>
                  <a:pt x="25143" y="15596"/>
                  <a:pt x="22566" y="18155"/>
                  <a:pt x="19799" y="18155"/>
                </a:cubicBezTo>
                <a:lnTo>
                  <a:pt x="18136" y="18155"/>
                </a:lnTo>
                <a:cubicBezTo>
                  <a:pt x="15368" y="18155"/>
                  <a:pt x="12792" y="15596"/>
                  <a:pt x="1279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考考你：</a:t>
            </a:r>
            <a:br>
              <a:rPr sz="54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法国国旗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红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白、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黑体"/>
              </a:rPr>
              <a:t>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三色代表什么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286000" y="2209680"/>
            <a:ext cx="4191120" cy="25401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867280" y="45720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75640" y="53341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华文琥珀"/>
              </a:rPr>
              <a:t>自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4419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78720" y="5410080"/>
            <a:ext cx="118656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琥珀"/>
              </a:rPr>
              <a:t>平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590560" y="44956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37160" y="541008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cc00"/>
                </a:solidFill>
                <a:latin typeface="Arial"/>
                <a:ea typeface="华文琥珀"/>
              </a:rPr>
              <a:t>博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14400" y="213372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隶书简体"/>
              </a:rPr>
              <a:t>有捍卫大革命的成果打击欧洲封建统治传播资本主义的积极成份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隶书简体"/>
              </a:rPr>
              <a:t>有侵略争霸的消极成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6858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如何评价拿破仑的对外战争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563868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世界历史拿破仑时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v.youku.com/v_show/id_XMjM2MDE0MDQ=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752480" y="2514600"/>
            <a:ext cx="6096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谢谢指导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380880" y="1295280"/>
            <a:ext cx="7696080" cy="5334120"/>
            <a:chOff x="380880" y="1295280"/>
            <a:chExt cx="7696080" cy="5334120"/>
          </a:xfrm>
        </p:grpSpPr>
        <p:sp>
          <p:nvSpPr>
            <p:cNvPr id="174" name=""/>
            <p:cNvSpPr/>
            <p:nvPr/>
          </p:nvSpPr>
          <p:spPr>
            <a:xfrm>
              <a:off x="3886200" y="1295280"/>
              <a:ext cx="4190760" cy="5334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0880" y="6629400"/>
              <a:ext cx="7696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56840" y="1295280"/>
              <a:ext cx="3429000" cy="5334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7760" y="2590560"/>
              <a:ext cx="1828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90560" y="3352680"/>
              <a:ext cx="2895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557520" y="1828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66"/>
                </a:solidFill>
                <a:latin typeface="Times New Roman"/>
                <a:ea typeface="PMingLiU"/>
              </a:rPr>
              <a:t>教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6668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贵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99440" y="3706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资产阶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38760" y="4419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PMingLiU"/>
              </a:rPr>
              <a:t>工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502920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城市贫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农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7242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48640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5530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26640" y="19051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PMingLiU"/>
              </a:rPr>
              <a:t>第一等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27800" y="26668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PMingLiU"/>
              </a:rPr>
              <a:t>第二等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5720" y="3886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PMingLiU"/>
              </a:rPr>
              <a:t>第三等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47451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法国社会等级制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9144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国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191120" y="121932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1676520"/>
            <a:ext cx="1469880" cy="1447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统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阶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4114800"/>
            <a:ext cx="1581120" cy="1517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被统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阶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514600" y="914400"/>
            <a:ext cx="4114800" cy="487692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7">
            <a:hlinkClick r:id="rId3" action="ppaction://hlinksldjump"/>
          </p:cNvPr>
          <p:cNvSpPr/>
          <p:nvPr/>
        </p:nvSpPr>
        <p:spPr>
          <a:xfrm>
            <a:off x="8229600" y="609588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10800"/>
                </a:moveTo>
                <a:lnTo>
                  <a:pt x="21859" y="3794"/>
                </a:lnTo>
                <a:lnTo>
                  <a:pt x="2185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828800" y="990720"/>
            <a:ext cx="7315200" cy="144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0" y="1371600"/>
            <a:ext cx="11430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3" action="ppaction://hlinksldjump"/>
          </p:cNvPr>
          <p:cNvSpPr/>
          <p:nvPr/>
        </p:nvSpPr>
        <p:spPr>
          <a:xfrm>
            <a:off x="0" y="2743200"/>
            <a:ext cx="1143000" cy="388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19520" y="24382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4120" y="2133720"/>
            <a:ext cx="533160" cy="609480"/>
          </a:xfrm>
          <a:prstGeom prst="downArrow">
            <a:avLst>
              <a:gd name="adj1" fmla="val 50000"/>
              <a:gd name="adj2" fmla="val 2857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52480" y="9144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封建王朝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专制统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1523880"/>
            <a:ext cx="16765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990720"/>
            <a:ext cx="26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资本主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914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束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16002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矛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79640" y="337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55960" y="398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1143000"/>
            <a:ext cx="533520" cy="3809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60240" y="4572000"/>
            <a:ext cx="18266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封建等级制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28195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封建王朝的专制统治阻碍了法国资本主义经济的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0574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7">
            <a:hlinkClick r:id="rId5" action="ppaction://hlinksldjump"/>
          </p:cNvPr>
          <p:cNvSpPr/>
          <p:nvPr/>
        </p:nvSpPr>
        <p:spPr>
          <a:xfrm>
            <a:off x="7620120" y="5638680"/>
            <a:ext cx="1218960" cy="741600"/>
          </a:xfrm>
          <a:custGeom>
            <a:avLst/>
            <a:gdLst>
              <a:gd name="textAreaLeft" fmla="*/ 47880 w 1218960"/>
              <a:gd name="textAreaRight" fmla="*/ 1171080 w 1218960"/>
              <a:gd name="textAreaTop" fmla="*/ 47880 h 741600"/>
              <a:gd name="textAreaBottom" fmla="*/ 693720 h 741600"/>
            </a:gdLst>
            <a:ahLst/>
            <a:rect l="textAreaLeft" t="textAreaTop" r="textAreaRight" b="textAreaBottom"/>
            <a:pathLst>
              <a:path w="35497" h="21600">
                <a:moveTo>
                  <a:pt x="0" y="0"/>
                </a:moveTo>
                <a:lnTo>
                  <a:pt x="35497" y="0"/>
                </a:lnTo>
                <a:lnTo>
                  <a:pt x="35497" y="21600"/>
                </a:lnTo>
                <a:lnTo>
                  <a:pt x="0" y="21600"/>
                </a:lnTo>
                <a:close/>
              </a:path>
              <a:path fill="lightenLess" w="35497" h="21600">
                <a:moveTo>
                  <a:pt x="0" y="0"/>
                </a:moveTo>
                <a:lnTo>
                  <a:pt x="35497" y="0"/>
                </a:lnTo>
                <a:lnTo>
                  <a:pt x="34097" y="1400"/>
                </a:lnTo>
                <a:lnTo>
                  <a:pt x="1400" y="1400"/>
                </a:lnTo>
                <a:close/>
              </a:path>
              <a:path fill="darken" w="35497" h="21600">
                <a:moveTo>
                  <a:pt x="35497" y="0"/>
                </a:moveTo>
                <a:lnTo>
                  <a:pt x="35497" y="21600"/>
                </a:lnTo>
                <a:lnTo>
                  <a:pt x="34097" y="20200"/>
                </a:lnTo>
                <a:lnTo>
                  <a:pt x="34097" y="1400"/>
                </a:lnTo>
                <a:close/>
              </a:path>
              <a:path fill="darkenLess" w="35497" h="21600">
                <a:moveTo>
                  <a:pt x="35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97" y="20200"/>
                </a:lnTo>
                <a:close/>
              </a:path>
              <a:path fill="lighten" w="35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497" h="21600">
                <a:moveTo>
                  <a:pt x="10742" y="3794"/>
                </a:moveTo>
                <a:lnTo>
                  <a:pt x="24755" y="10800"/>
                </a:lnTo>
                <a:lnTo>
                  <a:pt x="107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819520" y="24382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2514600"/>
            <a:ext cx="8382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开始：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攻占巴士底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78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3200400"/>
            <a:ext cx="7543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资产阶级掌权，颁布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人权宣言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79640" y="337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886200"/>
            <a:ext cx="769644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废除君主制，建立共和国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处死国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9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55960" y="398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5105520"/>
            <a:ext cx="86104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高潮：巴黎人民起义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雅各宾派掌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4680" y="5270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法国大革命时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5715000"/>
            <a:ext cx="51814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法国革命的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伟大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导火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29040" y="1951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级会议的召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-531720"/>
            <a:ext cx="84693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攻占巴士底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914400" y="1295280"/>
            <a:ext cx="6261120" cy="5031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494760" y="1219320"/>
            <a:ext cx="2649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ahoma"/>
                <a:ea typeface="隶书"/>
              </a:rPr>
              <a:t>为何先攻</a:t>
            </a:r>
            <a:r>
              <a:rPr b="0" lang="zh-CN" sz="5400" spc="-1" strike="noStrike">
                <a:solidFill>
                  <a:srgbClr val="808080"/>
                </a:solidFill>
                <a:latin typeface="Tahoma"/>
                <a:ea typeface="隶书"/>
              </a:rPr>
              <a:t>巴士底狱？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  <a:ea typeface="隶书"/>
              </a:rPr>
              <a:t>有何意义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07880" y="457200"/>
            <a:ext cx="322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黑体"/>
              </a:rPr>
              <a:t>—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专制统治的象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7">
            <a:hlinkClick r:id="rId3" action="ppaction://hlinksldjump"/>
          </p:cNvPr>
          <p:cNvSpPr/>
          <p:nvPr/>
        </p:nvSpPr>
        <p:spPr>
          <a:xfrm>
            <a:off x="7620120" y="6019920"/>
            <a:ext cx="1218960" cy="360360"/>
          </a:xfrm>
          <a:custGeom>
            <a:avLst/>
            <a:gdLst>
              <a:gd name="textAreaLeft" fmla="*/ 23040 w 1218960"/>
              <a:gd name="textAreaRight" fmla="*/ 1195920 w 12189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73013" h="21600">
                <a:moveTo>
                  <a:pt x="0" y="0"/>
                </a:moveTo>
                <a:lnTo>
                  <a:pt x="73013" y="0"/>
                </a:lnTo>
                <a:lnTo>
                  <a:pt x="73013" y="21600"/>
                </a:lnTo>
                <a:lnTo>
                  <a:pt x="0" y="21600"/>
                </a:lnTo>
                <a:close/>
              </a:path>
              <a:path fill="lightenLess" w="73013" h="21600">
                <a:moveTo>
                  <a:pt x="0" y="0"/>
                </a:moveTo>
                <a:lnTo>
                  <a:pt x="73013" y="0"/>
                </a:lnTo>
                <a:lnTo>
                  <a:pt x="71613" y="1400"/>
                </a:lnTo>
                <a:lnTo>
                  <a:pt x="1400" y="1400"/>
                </a:lnTo>
                <a:close/>
              </a:path>
              <a:path fill="darken" w="73013" h="21600">
                <a:moveTo>
                  <a:pt x="73013" y="0"/>
                </a:moveTo>
                <a:lnTo>
                  <a:pt x="73013" y="21600"/>
                </a:lnTo>
                <a:lnTo>
                  <a:pt x="71613" y="20200"/>
                </a:lnTo>
                <a:lnTo>
                  <a:pt x="71613" y="1400"/>
                </a:lnTo>
                <a:close/>
              </a:path>
              <a:path fill="darkenLess" w="73013" h="21600">
                <a:moveTo>
                  <a:pt x="73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613" y="20200"/>
                </a:lnTo>
                <a:close/>
              </a:path>
              <a:path fill="lighten" w="73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013" h="21600">
                <a:moveTo>
                  <a:pt x="29500" y="3794"/>
                </a:moveTo>
                <a:lnTo>
                  <a:pt x="43513" y="10800"/>
                </a:lnTo>
                <a:lnTo>
                  <a:pt x="295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609480"/>
            <a:ext cx="281952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隶书"/>
                <a:ea typeface="隶书"/>
              </a:rPr>
              <a:t>法国大革命</a:t>
            </a:r>
            <a:r>
              <a:rPr b="0" lang="zh-CN" sz="3600" spc="-1" strike="noStrike">
                <a:solidFill>
                  <a:srgbClr val="6600cc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17524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华文仿宋"/>
                <a:ea typeface="华文仿宋"/>
              </a:rPr>
              <a:t>巴士底狱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不是一般的监狱，它是专门关押政治犯的。是统治阶级为了维护自己的统治，关押被统治阶级的地方。巴士底狱是法国封建势力的象征。人们向它开火，就意味着要向传统的封建势力开战。攻占巴士底狱，这是大革命的开端，从此掀开了大革命的序幕。</a:t>
            </a:r>
            <a:r>
              <a:rPr b="0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3" action="ppaction://hlinksldjump"/>
          </p:cNvPr>
          <p:cNvSpPr/>
          <p:nvPr/>
        </p:nvSpPr>
        <p:spPr>
          <a:xfrm>
            <a:off x="74674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60" h="21600">
                <a:moveTo>
                  <a:pt x="9973" y="7493"/>
                </a:moveTo>
                <a:lnTo>
                  <a:pt x="13481" y="7493"/>
                </a:lnTo>
                <a:lnTo>
                  <a:pt x="13481" y="12828"/>
                </a:lnTo>
                <a:cubicBezTo>
                  <a:pt x="13481" y="13751"/>
                  <a:pt x="14282" y="14482"/>
                  <a:pt x="15317" y="14482"/>
                </a:cubicBezTo>
                <a:lnTo>
                  <a:pt x="16980" y="14482"/>
                </a:lnTo>
                <a:cubicBezTo>
                  <a:pt x="18015" y="14482"/>
                  <a:pt x="18816" y="13751"/>
                  <a:pt x="18816" y="12828"/>
                </a:cubicBezTo>
                <a:lnTo>
                  <a:pt x="18816" y="7493"/>
                </a:lnTo>
                <a:lnTo>
                  <a:pt x="16980" y="7493"/>
                </a:lnTo>
                <a:lnTo>
                  <a:pt x="20487" y="3985"/>
                </a:lnTo>
                <a:lnTo>
                  <a:pt x="24160" y="7493"/>
                </a:lnTo>
                <a:lnTo>
                  <a:pt x="22324" y="7493"/>
                </a:lnTo>
                <a:lnTo>
                  <a:pt x="22324" y="12828"/>
                </a:lnTo>
                <a:cubicBezTo>
                  <a:pt x="22324" y="15596"/>
                  <a:pt x="19748" y="18155"/>
                  <a:pt x="16980" y="18155"/>
                </a:cubicBezTo>
                <a:lnTo>
                  <a:pt x="15317" y="18155"/>
                </a:lnTo>
                <a:cubicBezTo>
                  <a:pt x="12550" y="18155"/>
                  <a:pt x="9973" y="15596"/>
                  <a:pt x="99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485000" y="593640"/>
            <a:ext cx="294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  <a:ea typeface="方正隶书简体"/>
              </a:rPr>
              <a:t>《</a:t>
            </a:r>
            <a:r>
              <a:rPr b="1" lang="zh-CN" sz="6000" spc="-1" strike="noStrike">
                <a:solidFill>
                  <a:srgbClr val="000066"/>
                </a:solidFill>
                <a:latin typeface="Times New Roman"/>
                <a:ea typeface="方正隶书简体"/>
              </a:rPr>
              <a:t>人权宣言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  <a:ea typeface="方正隶书简体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2298600"/>
            <a:ext cx="510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方正魏碑简体"/>
              </a:rPr>
              <a:t>人们生来自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方正魏碑简体"/>
              </a:rPr>
              <a:t>权利平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方正魏碑简体"/>
              </a:rPr>
              <a:t>私有财产神圣不可侵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745240" y="1066680"/>
            <a:ext cx="3398760" cy="4419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059200" y="548460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人生来而且始终是自由的，在权利上是平等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法律是公共意志的体现，所有公民都有权参与法律的制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rId3" action="ppaction://hlinksldjump"/>
          </p:cNvPr>
          <p:cNvSpPr/>
          <p:nvPr/>
        </p:nvSpPr>
        <p:spPr>
          <a:xfrm>
            <a:off x="8153280" y="57150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7493"/>
                </a:moveTo>
                <a:lnTo>
                  <a:pt x="16300" y="7493"/>
                </a:lnTo>
                <a:lnTo>
                  <a:pt x="16300" y="12828"/>
                </a:lnTo>
                <a:cubicBezTo>
                  <a:pt x="16300" y="13751"/>
                  <a:pt x="17100" y="14482"/>
                  <a:pt x="18136" y="14482"/>
                </a:cubicBezTo>
                <a:lnTo>
                  <a:pt x="19799" y="14482"/>
                </a:lnTo>
                <a:cubicBezTo>
                  <a:pt x="20834" y="14482"/>
                  <a:pt x="21635" y="13751"/>
                  <a:pt x="21635" y="12828"/>
                </a:cubicBezTo>
                <a:lnTo>
                  <a:pt x="21635" y="7493"/>
                </a:lnTo>
                <a:lnTo>
                  <a:pt x="19799" y="7493"/>
                </a:lnTo>
                <a:lnTo>
                  <a:pt x="23306" y="3985"/>
                </a:lnTo>
                <a:lnTo>
                  <a:pt x="26979" y="7493"/>
                </a:lnTo>
                <a:lnTo>
                  <a:pt x="25143" y="7493"/>
                </a:lnTo>
                <a:lnTo>
                  <a:pt x="25143" y="12828"/>
                </a:lnTo>
                <a:cubicBezTo>
                  <a:pt x="25143" y="15596"/>
                  <a:pt x="22566" y="18155"/>
                  <a:pt x="19799" y="18155"/>
                </a:cubicBezTo>
                <a:lnTo>
                  <a:pt x="18136" y="18155"/>
                </a:lnTo>
                <a:cubicBezTo>
                  <a:pt x="15368" y="18155"/>
                  <a:pt x="12792" y="15596"/>
                  <a:pt x="1279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User</cp:lastModifiedBy>
  <dcterms:modified xsi:type="dcterms:W3CDTF">2012-11-12T23:59:42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63</vt:lpwstr>
  </property>
  <property fmtid="{D5CDD505-2E9C-101B-9397-08002B2CF9AE}" pid="3" name="Version">
    <vt:r8>1</vt:r8>
  </property>
</Properties>
</file>